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soliloquy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697-0220-4EAC-B6DC-C32898C2DC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25D-5C2C-4CCB-BA19-3D4E50784B4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D48-FFEC-4DC1-8D61-79E36E6226C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572-BFAA-4CA1-9564-9C3BB519DCF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363-0851-4F1B-94FC-1AE4FA45C62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E40-5D26-4808-B13D-3B33BE57488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CF00-C11A-45AF-8D35-5F47BF90135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44C-19DC-4CBC-BDBB-12D3C36A381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1818-765E-4067-A229-37C7E679825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47D-8C42-4384-8098-C7461AAE62F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94D-58F7-46E3-93A7-9BB5EFFF3C9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88E-BB45-46AC-BE2A-A2639BD4F85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AFD3-86D2-473B-A901-D66E8359365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30F-3EE7-4549-9576-84901967868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009-38B0-48F1-8D14-289B98FB327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0F4D-7FA1-4139-B1CC-157C73221A3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67F-EAEB-4686-B39D-FCB933348F2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FD0-A2D4-4B49-BCD9-63B59577335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DAA-8621-4842-A397-8A18D1ACC59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FBF-B4A8-4894-8D29-9EE2F2C7BB3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14B2-A6C2-4EE8-94EE-10C582AC11C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477F-6459-4E2D-ADFE-29832E38CF7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DA22-38E3-4FAB-803F-EB80750B55D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DE68-F4E2-439A-9ABC-C60DF0EE9FB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D724-372D-4983-ADC7-BE5F947D983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0FF-423E-433C-9DCB-CF6C37D18C6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360-DCD8-4819-9228-7B1DF2EE771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655-8B11-4251-9288-BABB9D3FEEC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B5AE-2DFF-4237-A859-CB91B8A070E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D03-6BC7-4662-9965-C6296B18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967-F4A1-4A72-B001-E9C853C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C54-8C88-4831-82FF-8E061EC6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E32-68B1-4609-945E-26E63666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999-8F5C-4C86-9022-82CE17D2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280-F314-495F-A0B2-3A79BCE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97E-DF60-436A-975B-3C31AE8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472-C219-41E6-9D52-CEA6833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BB5-0044-4507-AA93-98C7249B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CF3-2B86-493F-BE0D-ACBC630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43F-7B1C-4402-B4FC-13F21AD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561-4DBC-4ED9-8DD9-4E40B57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6604-AB73-4365-98FD-DC6C0859DA7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oliloqu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Félins. (20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ZoneTexte 2" descr=""/>
          <p:cNvPicPr/>
          <p:nvPr/>
        </p:nvPicPr>
        <p:blipFill>
          <a:blip r:embed="rId2"/>
          <a:stretch/>
        </p:blipFill>
        <p:spPr>
          <a:xfrm>
            <a:off x="-6480" y="-225360"/>
            <a:ext cx="915696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10320" y="6248520"/>
            <a:ext cx="21528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di1"/>
              </a:rPr>
              <a:t>Musical automatique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di1"/>
              <a:ea typeface="adi1"/>
            </a:endParaRPr>
          </a:p>
        </p:txBody>
      </p:sp>
    </p:spTree>
  </p:cSld>
  <p:transition spd="slow" advTm="6000">
    <p:randomBar dir="vert"/>
    <p:sndAc>
      <p:stSnd>
        <p:snd r:embed="rId3" name="soliloqu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Félins. (9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Félins. (14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Félins. (9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Félins. (14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2" descr="Image1.jpg"/>
          <p:cNvPicPr/>
          <p:nvPr/>
        </p:nvPicPr>
        <p:blipFill>
          <a:blip r:embed="rId1"/>
          <a:stretch/>
        </p:blipFill>
        <p:spPr>
          <a:xfrm>
            <a:off x="27000" y="93600"/>
            <a:ext cx="9090000" cy="667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00029920.jpg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Félins. (14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Félins. (55).jpg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Félins. (54).jpg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Félins. (14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524993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Félins. (118).jpg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Félins. (192).jpg"/>
          <p:cNvPicPr/>
          <p:nvPr/>
        </p:nvPicPr>
        <p:blipFill>
          <a:blip r:embed="rId1"/>
          <a:stretch/>
        </p:blipFill>
        <p:spPr>
          <a:xfrm>
            <a:off x="1154160" y="0"/>
            <a:ext cx="6835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Félins. (284)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Félins. (224).jpg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Imag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Félins. (27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Félins. (244)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Félins. (245)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Félins. (12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ZoneTexte 2" descr=""/>
          <p:cNvPicPr/>
          <p:nvPr/>
        </p:nvPicPr>
        <p:blipFill>
          <a:blip r:embed="rId2"/>
          <a:stretch/>
        </p:blipFill>
        <p:spPr>
          <a:xfrm>
            <a:off x="4932360" y="5864400"/>
            <a:ext cx="4046400" cy="914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127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Félins. (11)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Félins. (32).jpg"/>
          <p:cNvPicPr/>
          <p:nvPr/>
        </p:nvPicPr>
        <p:blipFill>
          <a:blip r:embed="rId1"/>
          <a:stretch/>
        </p:blipFill>
        <p:spPr>
          <a:xfrm>
            <a:off x="2428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Félins. (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Félins. (52).jpg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Félins. (72)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Félins. (267)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0:26:45Z</dcterms:created>
  <dc:creator>kiki</dc:creator>
  <dc:description/>
  <dc:language>en-US</dc:language>
  <cp:lastModifiedBy>Truus</cp:lastModifiedBy>
  <dcterms:modified xsi:type="dcterms:W3CDTF">2008-04-02T21:47:05Z</dcterms:modified>
  <cp:revision>50</cp:revision>
  <dc:subject/>
  <dc:title>Album photo</dc:title>
</cp:coreProperties>
</file>