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Mort%20Shumann%20sorrow002.wav" ContentType="audio/x-wav"/>
  <Override PartName="/ppt/media/image1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0DC-7100-4F93-AA1B-665182F547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BF0C-F03F-4EC8-A680-F9C9C3967E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02C-E6FA-46E5-8AC0-0B95709AAE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9B59-8AA4-4366-A4AD-950FE66BE7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658-F55C-47AC-BDE0-56E6152012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938-B477-40E7-81B9-D1833D9F44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5A0-DBEE-4EF3-BB1A-C34749A607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379-97FB-4CF8-B352-C431D6398A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3627-EA4D-4C36-9369-646A235B4A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C9E-1A5A-483C-928F-7AA5D5348F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0E3-12B8-4228-9243-C22CCB1169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B00-CE0A-44F4-8AE1-A8FA28443E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5FA-1C94-4C20-8F47-173FB7BD83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E943-6B5C-449B-B9D8-DAFD9B5ED3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C54-F5FE-4DB0-B0DA-6EBC28622C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A27B-F1A4-4A79-9B06-102B188E68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682B-D4F2-4DC7-AD56-C8F1519F9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8FA-AB1A-40C6-A703-8C25673600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833-438F-4293-A3C8-927249EB57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2BC-5185-4FB7-862A-B05D706002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30E-C6FF-47AF-9171-C06E25126B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B0DF-A92B-407A-B6DB-F0F1A0494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951-6150-4A44-B21B-96277C4F1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F481-BDC8-4B2C-B461-B8DCFC4C02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DC2-02BA-4CFF-873D-097617BDD7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D057-5B97-429D-9DDB-03EE88D4C4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2D6B-C32B-428A-83C6-2A1FA5E98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5B06-AE9F-487A-BA94-44697A6D92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6332-ED57-43E2-A5E3-360FB6E7CC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31E3-D299-4645-B411-7670AB5E8D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B87-9E2E-4FF6-93C2-358F7D8D60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A07-7EC1-4193-9132-9D7AC9C444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062-05A0-4F00-8E99-207373E0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7A8-3D3A-42F9-A809-D446CD2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C4D-4CFF-45E7-BA65-240CAFB3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50F-4906-4012-9667-5B6E6B4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2B2-995D-4DD5-B884-3B86D1F9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FBE-FE90-4DE0-9CF5-CC4CC98A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47B-D89E-43DD-86C8-13BC0AA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9F9-D150-4B27-8755-48B3202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E68-F04B-4F1F-A39F-0EC63A4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AE1-13D4-471B-AFE3-B2D875B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7E8-B233-486D-93E5-E7CCE4C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634-2EA6-4744-A22B-34BFAED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004-6AEF-44F7-B744-E164231ECD3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Mort%20Shumann%20sorrow002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62320" y="2362320"/>
            <a:ext cx="449568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f8e362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aiandra GD"/>
              </a:rPr>
              <a:t>TUNÉZIA</a:t>
            </a:r>
            <a:endParaRPr b="0" i="1" lang="en-US" sz="6000" spc="1" strike="noStrike">
              <a:ln w="9360">
                <a:solidFill>
                  <a:srgbClr val="f8e362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2240" y="53737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4880" y="54500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03480" y="56023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onast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98560" y="579132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Sidi-Sahbi -Mec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4880" y="56786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3600" y="55627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Tatao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15480" y="5830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ou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1040" y="56786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79440" y="567864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Tunéziai száll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90760" y="57546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67240" y="557388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idi bou S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45400" y="57546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idi bou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89280" y="601992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idi bou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696440" cy="556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56386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Kebili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1280" y="5830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ou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29200" y="55562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VÉ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236232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6720" y="53341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mfiteá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50840" y="560232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rab Garfield                          Monasti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71440" y="57546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ona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9440" y="545004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El-Jem Kolosszeum rész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9440" y="55260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Karthág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0:51:48Z</dcterms:created>
  <dc:creator>Barabás Rózsa</dc:creator>
  <dc:description/>
  <dc:language>en-US</dc:language>
  <cp:lastModifiedBy>Dr Bajzák Tamásné</cp:lastModifiedBy>
  <dcterms:modified xsi:type="dcterms:W3CDTF">2009-02-28T20:33:47Z</dcterms:modified>
  <cp:revision>43</cp:revision>
  <dc:subject/>
  <dc:title>TUNÉZ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