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%E6%8B%9C%E8%A8%AA%E6%98%A5%E5%A4%A9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0CC-1B1C-4C02-B9E1-C3EAF1D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891-9626-42AE-B555-59AF196C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7C2-EB87-458B-A8A7-C7D91C24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545-CD19-4FBA-AD69-CF169654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2D9-B0A4-4E45-BDAF-9B6B8885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0BC-1992-4ED0-8E81-F275800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3F8-FB45-4B80-9165-9D868992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2C8-4F2C-45CA-9647-CB10C6B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F4F-79C2-4FBD-ACA3-29B79AA3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E24-5698-4391-88BB-4C74590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C4F-E6EF-41BE-B83A-439C337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D36-CDEB-465A-9508-9D811C5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EB0E-1E94-4097-82E7-04FB9322179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25308;&#35370;&#26149;&#22825;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99"/>
                </a:solidFill>
                <a:latin typeface="Arial"/>
                <a:ea typeface="新細明體"/>
              </a:rPr>
              <a:t>¿Qué hace un cocinero cuando está aburrido?</a:t>
            </a:r>
            <a:br>
              <a:rPr sz="7200"/>
            </a:br>
            <a:r>
              <a:rPr b="1" lang="zh-TW" sz="6000" spc="-1" strike="noStrike">
                <a:solidFill>
                  <a:srgbClr val="ff3399"/>
                </a:solidFill>
                <a:latin typeface="Arial"/>
                <a:ea typeface="新細明體"/>
              </a:rPr>
              <a:t>當一個廚師無聊的時候會做什麼</a:t>
            </a:r>
            <a:r>
              <a:rPr b="1" lang="es-ES" sz="6000" spc="-1" strike="noStrike">
                <a:solidFill>
                  <a:srgbClr val="ff3399"/>
                </a:solidFill>
                <a:latin typeface="Arial"/>
                <a:ea typeface="新細明體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  <p:sndAc>
      <p:stSnd>
        <p:snd r:embed="rId1" name="%E6%8B%9C%E8%A8%AA%E6%98%A5%E5%A4%A9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05440" cy="63770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015040" cy="64404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3920" cy="64785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61200" cy="64357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767120" cy="60483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88120" cy="63784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64480" cy="60897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37560" cy="62168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532040" cy="63356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532400" cy="63370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697440" cy="64310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452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0469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32400" cy="63356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8016840" cy="64357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0199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3612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19520" cy="64800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75640" cy="6123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866720" y="58244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480360" cy="63961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37560" cy="57103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792840" cy="64958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088120" cy="63500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63896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64480" cy="59040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" y="549360"/>
            <a:ext cx="8809200" cy="583704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0:55:40Z</dcterms:created>
  <dc:creator>SanGilCr</dc:creator>
  <dc:description/>
  <dc:language>en-US</dc:language>
  <cp:lastModifiedBy>Pit</cp:lastModifiedBy>
  <dcterms:modified xsi:type="dcterms:W3CDTF">2010-04-06T11:02:40Z</dcterms:modified>
  <cp:revision>12</cp:revision>
  <dc:subject/>
  <dc:title>¿Qué hace un cocinero cuando está aburrido?</dc:title>
</cp:coreProperties>
</file>