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image27.jpeg" ContentType="image/jpeg"/>
  <Override PartName="/ppt/media/Langour.wav" ContentType="audio/x-wav"/>
  <Override PartName="/ppt/media/image20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EEF-436A-436A-BACA-F3E594A1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BDD-31A7-44FF-A40F-F1A7813B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884-5130-4DE9-A69F-827F10FB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861-FED1-4894-8164-2A77670E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598-D7E0-4A39-8962-54B366C3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E4F-1DC0-47F6-804C-8AED2BBF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C2B-EAE9-4852-99A0-C99630F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886-72B4-4AAF-83C4-ED66AF9F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645-D396-4F60-BA33-69958ED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BBD-93A0-4183-BFD1-AA6F6D3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98F-260A-4416-8BBE-C4A9E70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B15-2A69-44B0-B5B7-7B2FB5F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19A-64EC-48AF-94BC-20A8F13FF4B3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ngou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Avance automatique ou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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avec la </a:t>
            </a:r>
            <a:r>
              <a:rPr b="0" lang="es-ES_tradnl" sz="4800" spc="-1" strike="noStrike">
                <a:solidFill>
                  <a:srgbClr val="00ff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52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646200"/>
            <a:ext cx="9144000" cy="55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1600200"/>
            <a:ext cx="883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voilà des images reposantes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Faites passer, ça devrait détendre l'atmosphère...</a:t>
            </a:r>
            <a:r>
              <a:rPr b="1" i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25640" y="0"/>
            <a:ext cx="709272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4680"/>
            <a:ext cx="964872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6560" y="0"/>
            <a:ext cx="7669080" cy="687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76212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08000" y="262080"/>
            <a:ext cx="9252000" cy="63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3640" y="0"/>
            <a:ext cx="741672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990720"/>
            <a:ext cx="939636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99cc00"/>
                </a:solidFill>
                <a:latin typeface="Arial"/>
              </a:rPr>
              <a:t>Gardez bien à l'esprit en regardant ces magnifiques images que vous avez très peu de chance, et vos enfants encore moins, de revoir un jour de vos propres yeux un tel spectacle.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25640" y="0"/>
            <a:ext cx="709272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5736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3049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Merci d’avoir consacr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6 minutes de votre temps pour admirer ce petit reste de nature sauva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7242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Bonne journé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                              </a:t>
            </a:r>
            <a:r>
              <a:rPr b="1" i="1" lang="fr-FR" sz="5400" spc="-1" strike="noStrike">
                <a:solidFill>
                  <a:srgbClr val="990033"/>
                </a:solidFill>
                <a:latin typeface="Arial"/>
                <a:ea typeface="Arial"/>
              </a:rPr>
              <a:t>Dan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5053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ccff"/>
                </a:solidFill>
                <a:latin typeface="Comic Sans MS"/>
              </a:rPr>
              <a:t>Regalez vous de ce moment de pureté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5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01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2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04:01Z</dcterms:created>
  <dc:creator>Jaime Caballero Arriaga</dc:creator>
  <dc:description/>
  <dc:language>en-US</dc:language>
  <cp:lastModifiedBy>ginette perron</cp:lastModifiedBy>
  <dcterms:modified xsi:type="dcterms:W3CDTF">2008-02-20T00:50:58Z</dcterms:modified>
  <cp:revision>8</cp:revision>
  <dc:subject/>
  <dc:title>Power Point</dc:title>
</cp:coreProperties>
</file>