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64526-AEB5-48B0-8F10-F5009E83CE18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E3D3F-C344-4DD2-88AD-DC77782CFC6C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AF5AF-31DF-46F7-B1E7-CB5F28B884C3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24430-E8C6-437E-9161-51490FC31754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A9AF5-FB8A-4C72-95B7-90A71E88B950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BF1A6-51F4-4226-84EF-9CFD4F5464FC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C064B-8B10-4D6A-9021-A5C9DCF14A5B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0BCC4-41E3-4685-8331-DB9648916A83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C2BE8-6692-4DF9-9759-51AA1182C46D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81B55-AF30-46CF-A20E-943FB5314E88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670B7-D35F-4A23-B848-3CD8A0E4F8C7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B3C19-E45B-4F8A-8BC7-9E765094A5F2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961C3-77F8-43EB-99C2-E7A6BC01C16C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324BE-E38A-4BD7-A01C-D861A7A298CD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F32CD-F351-4D8F-9D47-D8CB051676F4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75F79-AE69-4B7F-AEE9-310B20375072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1A822-9E9E-465D-BC35-6093DDA2889E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3F721-3D2D-43FC-BDF5-90899EFB6EB8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C8996-04A2-463A-A56A-A3CC82700F6D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C83DF-3C2A-4C3E-ADC1-1E1FB2EAF5C4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68E8D-BB73-43E9-A595-1509E039F1A8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032A7-E93C-45D6-BB4F-28280687482A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E478B-8F27-4ED7-97C1-598D4B7EF3BD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45489-61F8-4B19-A2AE-F5408FFCFB28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7B49D-E48A-42CF-9433-DB2A19908010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7981F-C773-4D51-BBA1-D45FC2568823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944A6-4B54-45C3-A599-C0925E97F9D0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B04A7-015E-4AE6-B46E-7B609140E44D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9A908-C598-49BD-8417-3308F499F54D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9A627-3BA5-4292-A5B2-82F0958EF168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20955-9975-4B98-A8A0-2F6F05ED58BD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E10C9-3FA5-41C1-94A6-8EB7D3114C42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22567-1FB1-460B-8583-BA5B79A54A7A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14C94-45AB-452F-A3FD-ED5044816E87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E31ED-28A4-4286-BEDE-8905C0691C35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2980D-AEC4-4DE9-B163-041D16AE0C47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DA3E5-642F-4ADD-B453-24AD845D91E0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DFDE3-33FE-40F3-8C6E-AA7545B926CA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724E3-9A78-443E-902B-40F53EEBBA4F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C24B5-06DB-4B51-A105-918CC7BE9E99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85C05-58BC-4446-BCE0-8397B7C53253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94463-1C99-41DF-9957-A7EF0119D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9BD70-AAEE-410C-9E34-8CF10345C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C18CF-02F8-42FD-AC43-7DB2C7D06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7168A-05A6-418B-A0A1-960B66DAB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E305E-5EC2-4CBB-8032-59411F8F4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5C8D6-38B1-4840-A13F-DE2A7DAFD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B7EE3-E69B-4140-8B0A-E94DC8D83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D1B7A-6EB7-4E88-AE3D-EE2C27FBD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705DE-93F2-480E-9819-413F36CAD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5F06B-AAF7-489D-A676-F82A06B5B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39FEB-4B2C-42E6-94F7-0D3F89D55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CC88D-6B9E-436F-8A0D-BFC6B48E1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3DCA2-34BD-41B9-B805-A2D92B185B0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99680" y="1785600"/>
            <a:ext cx="8286840" cy="214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000000"/>
                </a:solidFill>
                <a:latin typeface="Century Gothic"/>
              </a:rPr>
              <a:t>And here are the Top images From the Internet For Ye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28600" y="3642840"/>
            <a:ext cx="87012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entury Gothic"/>
              </a:rPr>
              <a:t>2008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000000"/>
                </a:solidFill>
                <a:latin typeface="Century Gothic"/>
              </a:rPr>
              <a:t>The best “On the Spot” pi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228240" y="4114800"/>
            <a:ext cx="8915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entury Gothic"/>
              </a:rPr>
              <a:t>86.3% vo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4" descr="C:\Documents and Settings\César.C-DIL7E3UIQIP0Q\Escritorio\Whatatop\Powerpoint 2007\13111_86_05.jpg"/>
          <p:cNvPicPr/>
          <p:nvPr/>
        </p:nvPicPr>
        <p:blipFill>
          <a:blip r:embed="rId1"/>
          <a:stretch/>
        </p:blipFill>
        <p:spPr>
          <a:xfrm>
            <a:off x="838080" y="1112760"/>
            <a:ext cx="7467840" cy="46306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000000"/>
                </a:solidFill>
                <a:latin typeface="Century Gothic"/>
              </a:rPr>
              <a:t>Special Category for best </a:t>
            </a:r>
            <a:br>
              <a:rPr sz="4400"/>
            </a:br>
            <a:r>
              <a:rPr b="1" lang="en-AU" sz="4400" spc="-1" strike="noStrike">
                <a:solidFill>
                  <a:srgbClr val="000000"/>
                </a:solidFill>
                <a:latin typeface="Century Gothic"/>
              </a:rPr>
              <a:t>“Human Landscape</a:t>
            </a:r>
            <a:r>
              <a:rPr b="1" lang="es-ES" sz="4400" spc="-1" strike="noStrike">
                <a:solidFill>
                  <a:srgbClr val="000000"/>
                </a:solidFill>
                <a:latin typeface="Century Gothic"/>
              </a:rPr>
              <a:t>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228240" y="4419720"/>
            <a:ext cx="8915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entury Gothic"/>
              </a:rPr>
              <a:t>87.7% vo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C:\Documents and Settings\César.C-DIL7E3UIQIP0Q\Escritorio\Whatatop\Powerpoint 2007\12502.jpg"/>
          <p:cNvPicPr/>
          <p:nvPr/>
        </p:nvPicPr>
        <p:blipFill>
          <a:blip r:embed="rId1"/>
          <a:srcRect l="4524" t="8021" r="5104" b="9257"/>
          <a:stretch/>
        </p:blipFill>
        <p:spPr>
          <a:xfrm>
            <a:off x="1066680" y="820800"/>
            <a:ext cx="7239240" cy="49626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2133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000000"/>
                </a:solidFill>
                <a:latin typeface="Century Gothic"/>
              </a:rPr>
              <a:t>Special Category for Best </a:t>
            </a:r>
            <a:br>
              <a:rPr sz="4400"/>
            </a:br>
            <a:r>
              <a:rPr b="1" lang="en-AU" sz="4400" spc="-1" strike="noStrike">
                <a:solidFill>
                  <a:srgbClr val="000000"/>
                </a:solidFill>
                <a:latin typeface="Century Gothic"/>
              </a:rPr>
              <a:t>“Animal World</a:t>
            </a:r>
            <a:r>
              <a:rPr b="1" lang="es-ES" sz="4400" spc="-1" strike="noStrike">
                <a:solidFill>
                  <a:srgbClr val="000000"/>
                </a:solidFill>
                <a:latin typeface="Century Gothic"/>
              </a:rPr>
              <a:t>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228240" y="4419720"/>
            <a:ext cx="8915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entury Gothic"/>
              </a:rPr>
              <a:t>89.3% vo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C:\Documents and Settings\César.C-DIL7E3UIQIP0Q\Escritorio\Whatatop\Powerpoint 2007\7044.jpg"/>
          <p:cNvPicPr/>
          <p:nvPr/>
        </p:nvPicPr>
        <p:blipFill>
          <a:blip r:embed="rId1"/>
          <a:stretch/>
        </p:blipFill>
        <p:spPr>
          <a:xfrm>
            <a:off x="914400" y="685800"/>
            <a:ext cx="7315200" cy="5486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000000"/>
                </a:solidFill>
                <a:latin typeface="Century Gothic"/>
              </a:rPr>
              <a:t>Special Category for Best </a:t>
            </a:r>
            <a:br>
              <a:rPr sz="4400"/>
            </a:br>
            <a:r>
              <a:rPr b="1" lang="en-AU" sz="4400" spc="-1" strike="noStrike">
                <a:solidFill>
                  <a:srgbClr val="000000"/>
                </a:solidFill>
                <a:latin typeface="Century Gothic"/>
              </a:rPr>
              <a:t>“Pets (Dogs)</a:t>
            </a:r>
            <a:r>
              <a:rPr b="1" lang="es-ES" sz="4400" spc="-1" strike="noStrike">
                <a:solidFill>
                  <a:srgbClr val="000000"/>
                </a:solidFill>
                <a:latin typeface="Century Gothic"/>
              </a:rPr>
              <a:t>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-360" y="4266720"/>
            <a:ext cx="89154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entury Gothic"/>
              </a:rPr>
              <a:t>83.6% vo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4" descr="C:\Documents and Settings\César.C-DIL7E3UIQIP0Q\Escritorio\Whatatop\Powerpoint 2007\16699.jpg"/>
          <p:cNvPicPr/>
          <p:nvPr/>
        </p:nvPicPr>
        <p:blipFill>
          <a:blip r:embed="rId1"/>
          <a:stretch/>
        </p:blipFill>
        <p:spPr>
          <a:xfrm>
            <a:off x="885960" y="668160"/>
            <a:ext cx="7372080" cy="55216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000000"/>
                </a:solidFill>
                <a:latin typeface="Century Gothic"/>
              </a:rPr>
              <a:t>Special Category for Best </a:t>
            </a:r>
            <a:br>
              <a:rPr sz="4400"/>
            </a:br>
            <a:r>
              <a:rPr b="1" lang="en-AU" sz="4400" spc="-1" strike="noStrike">
                <a:solidFill>
                  <a:srgbClr val="000000"/>
                </a:solidFill>
                <a:latin typeface="Century Gothic"/>
              </a:rPr>
              <a:t>“Pets (Cats)</a:t>
            </a:r>
            <a:r>
              <a:rPr b="1" lang="es-ES" sz="4400" spc="-1" strike="noStrike">
                <a:solidFill>
                  <a:srgbClr val="000000"/>
                </a:solidFill>
                <a:latin typeface="Century Gothic"/>
              </a:rPr>
              <a:t>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-360" y="4266720"/>
            <a:ext cx="89154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entury Gothic"/>
              </a:rPr>
              <a:t>82.7% vo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4" descr="C:\Documents and Settings\César.C-DIL7E3UIQIP0Q\Escritorio\Whatatop\Powerpoint 2007\16296.jpg"/>
          <p:cNvPicPr/>
          <p:nvPr/>
        </p:nvPicPr>
        <p:blipFill>
          <a:blip r:embed="rId1"/>
          <a:stretch/>
        </p:blipFill>
        <p:spPr>
          <a:xfrm>
            <a:off x="1066680" y="797040"/>
            <a:ext cx="7010640" cy="52639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000000"/>
                </a:solidFill>
                <a:latin typeface="Century Gothic"/>
              </a:rPr>
              <a:t>The best natural exterior pi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28240" y="4266720"/>
            <a:ext cx="89154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entury Gothic"/>
              </a:rPr>
              <a:t>88.6% vo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000000"/>
                </a:solidFill>
                <a:latin typeface="Century Gothic"/>
              </a:rPr>
              <a:t>Special Category for Best </a:t>
            </a:r>
            <a:br>
              <a:rPr sz="4400"/>
            </a:br>
            <a:r>
              <a:rPr b="1" lang="en-AU" sz="4400" spc="-1" strike="noStrike">
                <a:solidFill>
                  <a:srgbClr val="000000"/>
                </a:solidFill>
                <a:latin typeface="Century Gothic"/>
              </a:rPr>
              <a:t>“Urban Painting</a:t>
            </a:r>
            <a:r>
              <a:rPr b="1" lang="es-ES" sz="4400" spc="-1" strike="noStrike">
                <a:solidFill>
                  <a:srgbClr val="000000"/>
                </a:solidFill>
                <a:latin typeface="Century Gothic"/>
              </a:rPr>
              <a:t>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228240" y="4495320"/>
            <a:ext cx="89154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entury Gothic"/>
              </a:rPr>
              <a:t>88.9% vo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4" descr="C:\Documents and Settings\César.C-DIL7E3UIQIP0Q\Escritorio\Whatatop\Powerpoint 2007\10189.jpg"/>
          <p:cNvPicPr/>
          <p:nvPr/>
        </p:nvPicPr>
        <p:blipFill>
          <a:blip r:embed="rId1"/>
          <a:stretch/>
        </p:blipFill>
        <p:spPr>
          <a:xfrm>
            <a:off x="885960" y="668160"/>
            <a:ext cx="7372080" cy="55216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000000"/>
                </a:solidFill>
                <a:latin typeface="Century Gothic"/>
              </a:rPr>
              <a:t>Special Category for Best “Body Paints</a:t>
            </a:r>
            <a:r>
              <a:rPr b="1" lang="es-ES" sz="4400" spc="-1" strike="noStrike">
                <a:solidFill>
                  <a:srgbClr val="000000"/>
                </a:solidFill>
                <a:latin typeface="Century Gothic"/>
              </a:rPr>
              <a:t>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-360" y="4419720"/>
            <a:ext cx="8915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entury Gothic"/>
              </a:rPr>
              <a:t>86.6% vo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3" descr="C:\Documents and Settings\César.C-DIL7E3UIQIP0Q\Escritorio\Whatatop\Powerpoint 2007\top_postcard\4621_88_61.jpg"/>
          <p:cNvPicPr/>
          <p:nvPr/>
        </p:nvPicPr>
        <p:blipFill>
          <a:blip r:embed="rId1"/>
          <a:stretch/>
        </p:blipFill>
        <p:spPr>
          <a:xfrm>
            <a:off x="1143000" y="1028880"/>
            <a:ext cx="6934320" cy="47480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83" name="Rectangle 4"/>
          <p:cNvSpPr/>
          <p:nvPr/>
        </p:nvSpPr>
        <p:spPr>
          <a:xfrm>
            <a:off x="5410080" y="5410080"/>
            <a:ext cx="2644920" cy="33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000000"/>
                </a:solidFill>
                <a:latin typeface="Century Gothic"/>
              </a:rPr>
              <a:t>Special Category for Best </a:t>
            </a:r>
            <a:br>
              <a:rPr sz="4400"/>
            </a:br>
            <a:r>
              <a:rPr b="1" lang="en-AU" sz="4400" spc="-1" strike="noStrike">
                <a:solidFill>
                  <a:srgbClr val="000000"/>
                </a:solidFill>
                <a:latin typeface="Century Gothic"/>
              </a:rPr>
              <a:t>“Adventure Sport</a:t>
            </a:r>
            <a:r>
              <a:rPr b="1" lang="es-ES" sz="4400" spc="-1" strike="noStrike">
                <a:solidFill>
                  <a:srgbClr val="000000"/>
                </a:solidFill>
                <a:latin typeface="Century Gothic"/>
              </a:rPr>
              <a:t>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228240" y="4343400"/>
            <a:ext cx="8915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entury Gothic"/>
              </a:rPr>
              <a:t>80.9% vo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5" descr="C:\Documents and Settings\César.C-DIL7E3UIQIP0Q\Escritorio\Whatatop\Powerpoint 2007\top_postcard\13008_85_82.jpg"/>
          <p:cNvPicPr/>
          <p:nvPr/>
        </p:nvPicPr>
        <p:blipFill>
          <a:blip r:embed="rId1"/>
          <a:stretch/>
        </p:blipFill>
        <p:spPr>
          <a:xfrm>
            <a:off x="885960" y="851040"/>
            <a:ext cx="7372080" cy="51544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000000"/>
                </a:solidFill>
                <a:latin typeface="Century Gothic"/>
              </a:rPr>
              <a:t>Special Category for Best </a:t>
            </a:r>
            <a:br>
              <a:rPr sz="4400"/>
            </a:br>
            <a:r>
              <a:rPr b="1" lang="en-AU" sz="4400" spc="-1" strike="noStrike">
                <a:solidFill>
                  <a:srgbClr val="000000"/>
                </a:solidFill>
                <a:latin typeface="Century Gothic"/>
              </a:rPr>
              <a:t>“Transport</a:t>
            </a:r>
            <a:r>
              <a:rPr b="1" lang="es-ES" sz="4400" spc="-1" strike="noStrike">
                <a:solidFill>
                  <a:srgbClr val="000000"/>
                </a:solidFill>
                <a:latin typeface="Century Gothic"/>
              </a:rPr>
              <a:t>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-360" y="4343400"/>
            <a:ext cx="8915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entury Gothic"/>
              </a:rPr>
              <a:t>86.7% vo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6" descr="C:\Documents and Settings\César.C-DIL7E3UIQIP0Q\Escritorio\Whatatop\Powerpoint 2007\13499_86_72.jpg"/>
          <p:cNvPicPr/>
          <p:nvPr/>
        </p:nvPicPr>
        <p:blipFill>
          <a:blip r:embed="rId1"/>
          <a:stretch/>
        </p:blipFill>
        <p:spPr>
          <a:xfrm>
            <a:off x="885960" y="668160"/>
            <a:ext cx="7372080" cy="55216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2361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000000"/>
                </a:solidFill>
                <a:latin typeface="Century Gothic"/>
              </a:rPr>
              <a:t>Special Category for Best </a:t>
            </a:r>
            <a:br>
              <a:rPr sz="4400"/>
            </a:br>
            <a:r>
              <a:rPr b="1" lang="en-AU" sz="4400" spc="-1" strike="noStrike">
                <a:solidFill>
                  <a:srgbClr val="000000"/>
                </a:solidFill>
                <a:latin typeface="Century Gothic"/>
              </a:rPr>
              <a:t>“Public Display (Masculine)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28240" y="4266720"/>
            <a:ext cx="89154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entury Gothic"/>
              </a:rPr>
              <a:t>86.7% vo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3" descr="C:\Documents and Settings\César.C-DIL7E3UIQIP0Q\Escritorio\Whatatop\Powerpoint 2007\13751.jpg"/>
          <p:cNvPicPr/>
          <p:nvPr/>
        </p:nvPicPr>
        <p:blipFill>
          <a:blip r:embed="rId1"/>
          <a:stretch/>
        </p:blipFill>
        <p:spPr>
          <a:xfrm>
            <a:off x="885960" y="976320"/>
            <a:ext cx="7372080" cy="49039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3" descr="C:\Documents and Settings\César.C-DIL7E3UIQIP0Q\Escritorio\Whatatop\Powerpoint 2007\5016.jpg"/>
          <p:cNvPicPr/>
          <p:nvPr/>
        </p:nvPicPr>
        <p:blipFill>
          <a:blip r:embed="rId1"/>
          <a:srcRect l="0" t="0" r="0" b="4537"/>
          <a:stretch/>
        </p:blipFill>
        <p:spPr>
          <a:xfrm>
            <a:off x="885960" y="662040"/>
            <a:ext cx="7372080" cy="52815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2361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000000"/>
                </a:solidFill>
                <a:latin typeface="Century Gothic"/>
              </a:rPr>
              <a:t>Special Category for Best </a:t>
            </a:r>
            <a:br>
              <a:rPr sz="4400"/>
            </a:br>
            <a:r>
              <a:rPr b="1" lang="en-AU" sz="4400" spc="-1" strike="noStrike">
                <a:solidFill>
                  <a:srgbClr val="000000"/>
                </a:solidFill>
                <a:latin typeface="Century Gothic"/>
              </a:rPr>
              <a:t>“Public Display (Feminine)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228240" y="4266720"/>
            <a:ext cx="89154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entury Gothic"/>
              </a:rPr>
              <a:t>86.7% vo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3" descr="C:\Documents and Settings\César.C-DIL7E3UIQIP0Q\Escritorio\Whatatop\Powerpoint 2007\15111.jpg"/>
          <p:cNvPicPr/>
          <p:nvPr/>
        </p:nvPicPr>
        <p:blipFill>
          <a:blip r:embed="rId1"/>
          <a:stretch/>
        </p:blipFill>
        <p:spPr>
          <a:xfrm>
            <a:off x="885960" y="668160"/>
            <a:ext cx="7372080" cy="55216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2361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000000"/>
                </a:solidFill>
                <a:latin typeface="Century Gothic"/>
              </a:rPr>
              <a:t>Special Category for Best </a:t>
            </a:r>
            <a:br>
              <a:rPr sz="4400"/>
            </a:br>
            <a:r>
              <a:rPr b="1" lang="en-AU" sz="4400" spc="-1" strike="noStrike">
                <a:solidFill>
                  <a:srgbClr val="000000"/>
                </a:solidFill>
                <a:latin typeface="Century Gothic"/>
              </a:rPr>
              <a:t>“Public Display (General)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-360" y="4266720"/>
            <a:ext cx="89154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entury Gothic"/>
              </a:rPr>
              <a:t>86.2% vo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C:\Documents and Settings\César.C-DIL7E3UIQIP0Q\Escritorio\Whatatop\Powerpoint 2007\top_postcard\6157_86_22.jpg"/>
          <p:cNvPicPr/>
          <p:nvPr/>
        </p:nvPicPr>
        <p:blipFill>
          <a:blip r:embed="rId1"/>
          <a:srcRect l="0" t="0" r="0" b="4664"/>
          <a:stretch/>
        </p:blipFill>
        <p:spPr>
          <a:xfrm>
            <a:off x="2338560" y="228600"/>
            <a:ext cx="4336920" cy="63244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2133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000000"/>
                </a:solidFill>
                <a:latin typeface="Century Gothic"/>
              </a:rPr>
              <a:t>The Special Men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228240" y="4343400"/>
            <a:ext cx="8915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entury Gothic"/>
              </a:rPr>
              <a:t>86.7% vo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8" descr="C:\Documents and Settings\César.C-DIL7E3UIQIP0Q\Mis documentos\Mis imágenes\7239_86_79.jpg"/>
          <p:cNvPicPr/>
          <p:nvPr/>
        </p:nvPicPr>
        <p:blipFill>
          <a:blip r:embed="rId1"/>
          <a:stretch/>
        </p:blipFill>
        <p:spPr>
          <a:xfrm>
            <a:off x="2197080" y="0"/>
            <a:ext cx="498168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2590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000000"/>
                </a:solidFill>
                <a:latin typeface="Century Gothic"/>
              </a:rPr>
              <a:t>And finally </a:t>
            </a:r>
            <a:r>
              <a:rPr b="1" lang="es-ES" sz="4400" spc="-1" strike="noStrike">
                <a:solidFill>
                  <a:srgbClr val="000000"/>
                </a:solidFill>
                <a:latin typeface="Century Gothic"/>
              </a:rPr>
              <a:t>..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2209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000000"/>
                </a:solidFill>
                <a:latin typeface="Century Gothic"/>
              </a:rPr>
              <a:t>The Prize that leave us with the last word</a:t>
            </a:r>
            <a:r>
              <a:rPr b="1" lang="es-ES" sz="4400" spc="-1" strike="noStrike">
                <a:solidFill>
                  <a:srgbClr val="000000"/>
                </a:solidFill>
                <a:latin typeface="Century Gothic"/>
              </a:rPr>
              <a:t>.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-360" y="4419720"/>
            <a:ext cx="8915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entury Gothic"/>
              </a:rPr>
              <a:t>92.6% vo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4" descr="C:\Documents and Settings\César.C-DIL7E3UIQIP0Q\Escritorio\Whatatop\Powerpoint 2007\11282_91_58.jpg"/>
          <p:cNvPicPr/>
          <p:nvPr/>
        </p:nvPicPr>
        <p:blipFill>
          <a:blip r:embed="rId1"/>
          <a:stretch/>
        </p:blipFill>
        <p:spPr>
          <a:xfrm>
            <a:off x="885960" y="668160"/>
            <a:ext cx="7495920" cy="56134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1" lang="es-ES" sz="4400" spc="-1" strike="noStrike">
                <a:solidFill>
                  <a:srgbClr val="000000"/>
                </a:solidFill>
                <a:latin typeface="Century Gothic"/>
              </a:rPr>
              <a:t>YAOUOUOUOUOU!!!!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285920"/>
            <a:ext cx="7772400" cy="124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000000"/>
                </a:solidFill>
                <a:latin typeface="Century Gothic"/>
              </a:rPr>
              <a:t>The best natural interior pi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28240" y="3675240"/>
            <a:ext cx="8915400" cy="190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entury Gothic"/>
              </a:rPr>
              <a:t>90.7% vot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2"/>
          <p:cNvSpPr/>
          <p:nvPr/>
        </p:nvSpPr>
        <p:spPr>
          <a:xfrm>
            <a:off x="533520" y="2438280"/>
            <a:ext cx="7924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5400" spc="-1" strike="noStrike">
                <a:solidFill>
                  <a:srgbClr val="000000"/>
                </a:solidFill>
                <a:latin typeface="Century Gothic"/>
              </a:rPr>
              <a:t>Till Next Year…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1" descr="C:\Documents and Settings\César.C-DIL7E3UIQIP0Q\Escritorio\Whatatop\Powerpoint 2007\10261_88_66.jpg"/>
          <p:cNvPicPr/>
          <p:nvPr/>
        </p:nvPicPr>
        <p:blipFill>
          <a:blip r:embed="rId1"/>
          <a:stretch/>
        </p:blipFill>
        <p:spPr>
          <a:xfrm>
            <a:off x="885960" y="668160"/>
            <a:ext cx="7372080" cy="55216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000000"/>
                </a:solidFill>
                <a:latin typeface="Century Gothic"/>
              </a:rPr>
              <a:t>The best urban pi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228240" y="4343400"/>
            <a:ext cx="8915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entury Gothic"/>
              </a:rPr>
              <a:t>87.8% vo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1027" descr="C:\Documents and Settings\César.C-DIL7E3UIQIP0Q\Escritorio\Whatatop\Powerpoint 2007\16390.jpg"/>
          <p:cNvPicPr/>
          <p:nvPr/>
        </p:nvPicPr>
        <p:blipFill>
          <a:blip r:embed="rId1"/>
          <a:stretch/>
        </p:blipFill>
        <p:spPr>
          <a:xfrm>
            <a:off x="885960" y="628560"/>
            <a:ext cx="7372080" cy="56008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000000"/>
                </a:solidFill>
                <a:latin typeface="Century Gothic"/>
              </a:rPr>
              <a:t>The best “Human” pi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228240" y="4191120"/>
            <a:ext cx="8915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entury Gothic"/>
              </a:rPr>
              <a:t>86.2% votes</a:t>
            </a:r>
            <a:r>
              <a:rPr b="1" lang="es-ES" sz="44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5" descr="C:\Documents and Settings\César.C-DIL7E3UIQIP0Q\Escritorio\Whatatop\Powerpoint 2007\top_postcard\3747_86_29.jpg"/>
          <p:cNvPicPr/>
          <p:nvPr/>
        </p:nvPicPr>
        <p:blipFill>
          <a:blip r:embed="rId1"/>
          <a:srcRect l="0" t="0" r="0" b="4664"/>
          <a:stretch/>
        </p:blipFill>
        <p:spPr>
          <a:xfrm>
            <a:off x="2154240" y="457200"/>
            <a:ext cx="4997520" cy="58672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3T15:46:46Z</dcterms:created>
  <dc:creator>César Sánchez Ruiz</dc:creator>
  <dc:description/>
  <dc:language>en-US</dc:language>
  <cp:lastModifiedBy>MS</cp:lastModifiedBy>
  <dcterms:modified xsi:type="dcterms:W3CDTF">2008-12-08T03:37:41Z</dcterms:modified>
  <cp:revision>35</cp:revision>
  <dc:subject/>
  <dc:title>Las mejores imágenes de internet</dc:title>
</cp:coreProperties>
</file>