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Eva%20Cassidy%20-%20Somewhere%20Over%20the%20Rainbow.wav" ContentType="audio/x-wav"/>
  <Override PartName="/ppt/media/image2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594-C54E-4E75-B610-B43DF9DC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21F-B17E-44EA-984E-F1ECD98D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EAB-85F9-487A-ACE9-533483D6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3DF-C711-4C8E-A2F2-6C5600E5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98D-212E-45CB-87FA-C9DCC9C8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B1E-BB4F-4EFD-8DCE-8A23DC5C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DC0-3968-4047-8BE1-F303C52F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635-6DB7-4C26-B4E3-72820744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BBF-754C-4965-A44F-3D639215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7DF-6DEB-44F3-8443-9E3F279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EDC-BFBD-4EDA-AD54-635438E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3AB-1596-4F4A-8C70-1368D6EA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0693-7E93-4BA6-920D-392A4CDAC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va%20Cassidy%20-%20Somewhere%20Over%20the%20Rainb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55d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143000" y="-2750040"/>
            <a:ext cx="7115040" cy="10810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0720" y="7100280"/>
            <a:ext cx="33591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iquer pour avancer plus 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2514600"/>
            <a:ext cx="720108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obo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obo"/>
              </a:rPr>
              <a:t>un petit message d'amitié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obo"/>
              <a:ea typeface="Hob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obo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obo"/>
              </a:rPr>
              <a:t>sur une musique coo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obo"/>
              <a:ea typeface="Hob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obo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obo"/>
              <a:ea typeface="Hob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obo"/>
              <a:ea typeface="Hobo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400800" y="6400800"/>
            <a:ext cx="2209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obo"/>
              </a:rPr>
              <a:t>Nagrub  Fevrier 20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obo"/>
              <a:ea typeface="Hobo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47920" y="1447920"/>
            <a:ext cx="5715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757546"/>
                    </a:gs>
                  </a:gsLst>
                  <a:lin ang="5400000"/>
                </a:gradFill>
                <a:latin typeface="Hobo"/>
              </a:rPr>
              <a:t>bonjou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lin ang="5400000"/>
              </a:gradFill>
              <a:latin typeface="Hobo"/>
              <a:ea typeface="Hobo"/>
            </a:endParaRPr>
          </a:p>
        </p:txBody>
      </p:sp>
    </p:spTree>
  </p:cSld>
  <p:transition advTm="9000">
    <p:cut thruBlk="true"/>
    <p:sndAc>
      <p:stSnd>
        <p:snd r:embed="rId1" name="Eva%20Cassidy%20-%20Somewhere%20Over%20the%20Rainb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'&quot; top down &quot;' von R I P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'Einer schläft und einer wacht...' von Gunther Hasler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72616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5543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51600" cy="640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'&quot; was guckst du - mein deo ist ok, ehrlich &quot;' von R I P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'hey du!' von Sabine Rath"/>
          <p:cNvPicPr/>
          <p:nvPr/>
        </p:nvPicPr>
        <p:blipFill>
          <a:blip r:embed="rId1"/>
          <a:stretch/>
        </p:blipFill>
        <p:spPr>
          <a:xfrm>
            <a:off x="762120" y="690480"/>
            <a:ext cx="7619760" cy="547704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'Der Goldbronzeschweif' von Vera Böhm"/>
          <p:cNvPicPr/>
          <p:nvPr/>
        </p:nvPicPr>
        <p:blipFill>
          <a:blip r:embed="rId1"/>
          <a:stretch/>
        </p:blipFill>
        <p:spPr>
          <a:xfrm>
            <a:off x="228600" y="533520"/>
            <a:ext cx="8724960" cy="58402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'Tagpfauenauge mit Hummelpopo' von Vera Böhm"/>
          <p:cNvPicPr/>
          <p:nvPr/>
        </p:nvPicPr>
        <p:blipFill>
          <a:blip r:embed="rId1"/>
          <a:stretch/>
        </p:blipFill>
        <p:spPr>
          <a:xfrm>
            <a:off x="914400" y="990720"/>
            <a:ext cx="7426440" cy="49608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'böser Blick' von Jana Weichelt"/>
          <p:cNvPicPr/>
          <p:nvPr/>
        </p:nvPicPr>
        <p:blipFill>
          <a:blip r:embed="rId1"/>
          <a:stretch/>
        </p:blipFill>
        <p:spPr>
          <a:xfrm>
            <a:off x="1085760" y="552600"/>
            <a:ext cx="6972480" cy="57528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'Mäuseparadies' von Sascha Feuster"/>
          <p:cNvPicPr/>
          <p:nvPr/>
        </p:nvPicPr>
        <p:blipFill>
          <a:blip r:embed="rId1"/>
          <a:stretch/>
        </p:blipFill>
        <p:spPr>
          <a:xfrm>
            <a:off x="237960" y="523800"/>
            <a:ext cx="8668080" cy="58104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'delphi' von Sabine Rath"/>
          <p:cNvPicPr/>
          <p:nvPr/>
        </p:nvPicPr>
        <p:blipFill>
          <a:blip r:embed="rId1"/>
          <a:stretch/>
        </p:blipFill>
        <p:spPr>
          <a:xfrm>
            <a:off x="457200" y="525600"/>
            <a:ext cx="8153280" cy="58608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'ups...der Herbst ist da' von Reinhard Sch."/>
          <p:cNvPicPr/>
          <p:nvPr/>
        </p:nvPicPr>
        <p:blipFill>
          <a:blip r:embed="rId1"/>
          <a:stretch/>
        </p:blipFill>
        <p:spPr>
          <a:xfrm>
            <a:off x="533520" y="733320"/>
            <a:ext cx="8001000" cy="53406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'softies' von Sabine Rath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'Schneekönigin' von M³ Mückenmüller"/>
          <p:cNvPicPr/>
          <p:nvPr/>
        </p:nvPicPr>
        <p:blipFill>
          <a:blip r:embed="rId1"/>
          <a:stretch/>
        </p:blipFill>
        <p:spPr>
          <a:xfrm>
            <a:off x="228600" y="646200"/>
            <a:ext cx="8763120" cy="56782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04920"/>
            <a:ext cx="6400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762120"/>
            <a:ext cx="7391520" cy="5451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94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395280" y="-1230840"/>
            <a:ext cx="53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"/>
              </a:rPr>
              <a:t>Les petits font leur première sortie en mars alors qu'ils sont gros comme un chat. Ici ils ont quelques m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685800"/>
            <a:ext cx="7537320" cy="566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762120"/>
            <a:ext cx="7162920" cy="566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80960"/>
            <a:ext cx="853452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'Nasse Waldmaus' von Sascha Feuster"/>
          <p:cNvPicPr/>
          <p:nvPr/>
        </p:nvPicPr>
        <p:blipFill>
          <a:blip r:embed="rId1"/>
          <a:stretch/>
        </p:blipFill>
        <p:spPr>
          <a:xfrm>
            <a:off x="237960" y="523800"/>
            <a:ext cx="8668080" cy="581040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914400"/>
            <a:ext cx="7238880" cy="51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85800"/>
            <a:ext cx="7543800" cy="5626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80880"/>
            <a:ext cx="853452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09480"/>
            <a:ext cx="8686800" cy="5569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8276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533520"/>
            <a:ext cx="8686800" cy="578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'Brrrrr ....' von Fred V."/>
          <p:cNvPicPr/>
          <p:nvPr/>
        </p:nvPicPr>
        <p:blipFill>
          <a:blip r:embed="rId1"/>
          <a:stretch/>
        </p:blipFill>
        <p:spPr>
          <a:xfrm>
            <a:off x="285840" y="576360"/>
            <a:ext cx="8572320" cy="57052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09480"/>
            <a:ext cx="8763120" cy="583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609480"/>
            <a:ext cx="8534160" cy="551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838080"/>
            <a:ext cx="7772400" cy="5351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6120" y="804960"/>
            <a:ext cx="6251760" cy="524664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533520"/>
            <a:ext cx="6723000" cy="602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914400"/>
            <a:ext cx="8534160" cy="5137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ut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8a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39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04840"/>
            <a:ext cx="9144000" cy="6653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89000"/>
            <a:ext cx="665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bac0"/>
                    </a:gs>
                    <a:gs pos="50000">
                      <a:srgbClr val="ffcc66"/>
                    </a:gs>
                    <a:gs pos="100000">
                      <a:srgbClr val="66bac0"/>
                    </a:gs>
                  </a:gsLst>
                  <a:lin ang="5400000"/>
                </a:gradFill>
                <a:latin typeface="PoemRenaissance"/>
              </a:rPr>
              <a:t>que se poursuivent nos rêv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bac0"/>
                  </a:gs>
                  <a:gs pos="50000">
                    <a:srgbClr val="ffcc66"/>
                  </a:gs>
                  <a:gs pos="100000">
                    <a:srgbClr val="66bac0"/>
                  </a:gs>
                </a:gsLst>
                <a:lin ang="5400000"/>
              </a:gradFill>
              <a:latin typeface="PoemRenaissance"/>
              <a:ea typeface="PoemRenaissanc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2280"/>
            <a:ext cx="112536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bac0"/>
                    </a:gs>
                    <a:gs pos="100000">
                      <a:srgbClr val="ffd279"/>
                    </a:gs>
                  </a:gsLst>
                  <a:lin ang="5400000"/>
                </a:gradFill>
                <a:latin typeface="PoemRenaissance"/>
              </a:rPr>
              <a:t>et ..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bac0"/>
                  </a:gs>
                  <a:gs pos="100000">
                    <a:srgbClr val="ffd279"/>
                  </a:gs>
                </a:gsLst>
                <a:lin ang="5400000"/>
              </a:gradFill>
              <a:latin typeface="PoemRenaissance"/>
              <a:ea typeface="PoemRenaissan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4038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bac0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PoemRenaissance"/>
              </a:rPr>
              <a:t>bonne soiré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bac0"/>
                  </a:gs>
                  <a:gs pos="100000">
                    <a:srgbClr val="ffcc66"/>
                  </a:gs>
                </a:gsLst>
                <a:lin ang="5400000"/>
              </a:gradFill>
              <a:latin typeface="PoemRenaissance"/>
              <a:ea typeface="PoemRenaissance"/>
            </a:endParaRPr>
          </a:p>
        </p:txBody>
      </p:sp>
    </p:spTree>
  </p:cSld>
  <p:transition advTm="25000">
    <p:cut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848360" cy="588492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'Fütterungszeit' von Hans Clausen"/>
          <p:cNvPicPr/>
          <p:nvPr/>
        </p:nvPicPr>
        <p:blipFill>
          <a:blip r:embed="rId1"/>
          <a:stretch/>
        </p:blipFill>
        <p:spPr>
          <a:xfrm>
            <a:off x="762120" y="871560"/>
            <a:ext cx="7619760" cy="511488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81920" cy="598644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'Futterneid' von Tanja A."/>
          <p:cNvPicPr/>
          <p:nvPr/>
        </p:nvPicPr>
        <p:blipFill>
          <a:blip r:embed="rId1"/>
          <a:stretch/>
        </p:blipFill>
        <p:spPr>
          <a:xfrm>
            <a:off x="28440" y="385920"/>
            <a:ext cx="9087120" cy="608616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'yoga' von Sabine Rath"/>
          <p:cNvPicPr/>
          <p:nvPr/>
        </p:nvPicPr>
        <p:blipFill>
          <a:blip r:embed="rId1"/>
          <a:stretch/>
        </p:blipFill>
        <p:spPr>
          <a:xfrm>
            <a:off x="285840" y="762120"/>
            <a:ext cx="8572320" cy="5333760"/>
          </a:xfrm>
          <a:prstGeom prst="rect">
            <a:avLst/>
          </a:prstGeom>
          <a:ln w="0">
            <a:noFill/>
          </a:ln>
        </p:spPr>
      </p:pic>
    </p:spTree>
  </p:cSld>
  <p:transition advTm="6000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21:27:28Z</dcterms:created>
  <dc:creator>Propriétaire</dc:creator>
  <dc:description/>
  <dc:language>en-US</dc:language>
  <cp:lastModifiedBy>*</cp:lastModifiedBy>
  <dcterms:modified xsi:type="dcterms:W3CDTF">2007-09-24T19:29:55Z</dcterms:modified>
  <cp:revision>20</cp:revision>
  <dc:subject/>
  <dc:title>Diapositive 1</dc:title>
</cp:coreProperties>
</file>