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9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Nachtigall_Serenade20.wav" ContentType="audio/x-wav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9F6-FE95-46A3-AE99-5841D79F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5C4-81A2-41B1-AAF2-A1ECB7B6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F79-521E-48C7-A052-E2E49DE1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845-F044-4550-98CA-F6808227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53B-4E70-493B-9088-DE59E558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D72-5647-4A90-828F-F9128AEA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247-50FF-44A6-8123-8D5C8C10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252-5E74-4B81-BD8B-E6633D32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768-B67B-45E7-BF11-0BFF722A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41A-91F3-4819-BA7B-5C357B10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C52-D6F3-437C-A085-0C30AF59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2E2-0457-4C99-BCAD-14A0047B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BF9F-1CCE-4546-870A-29E54303AB59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achtigall_Serenade20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56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800" spc="-1" strike="noStrike">
                <a:solidFill>
                  <a:srgbClr val="ffcc00"/>
                </a:solidFill>
                <a:latin typeface="Arial"/>
              </a:rPr>
              <a:t>Music:   Nightengale Seren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-792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Friendship   Bouq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  <p:sndAc>
      <p:stSnd>
        <p:snd r:embed="rId2" name="Nachtigall_Serenade2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92720" y="26028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lways remember the compliments that you rece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orget about the rude re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49680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ways remember…when life hands you a lem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ways ask for sug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356000" y="63972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Arial"/>
              </a:rPr>
              <a:t>Good friends are like stars, you don’t always see them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Arial"/>
              </a:rPr>
              <a:t>but you know they are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81080" y="-195120"/>
            <a:ext cx="9577440" cy="7296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27640" y="2811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 would rather have one rose and a kind word from a Friend while I am here – than a whole truckload when I am g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42372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appiness keeps you swe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ls keep you st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orrows keep you Hum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ife keeps you hu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4237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Success keeps you glow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But, only Friends keep you g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5164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712800"/>
            <a:ext cx="47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orward this to your friends, and don’t tell me that you are too bus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n’t you know the phrase – ‘stop and smell the flowers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15920" y="0"/>
            <a:ext cx="81280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24360" y="5950080"/>
            <a:ext cx="2519280" cy="90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932360" y="4941720"/>
            <a:ext cx="714240" cy="1248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24360" y="6237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pphire Pro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4437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1a15"/>
                </a:solidFill>
                <a:latin typeface="Arial"/>
              </a:rPr>
              <a:t>To my friends – I was not too busy to make it and send it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1364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may not realize this – but the following is 100%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nk about some part of it da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60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are at least 2 people in this world who you would die 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…….at least 15 people in this world who you love in som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37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only reason that anyone would ever hate y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because they want to be just lik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50864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mile from you can bring happiness to anyo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 if they do not like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08360" y="496800"/>
            <a:ext cx="54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1d"/>
                </a:solidFill>
                <a:latin typeface="Arial"/>
              </a:rPr>
              <a:t>Every night, SOMEONE thinks about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1d"/>
                </a:solidFill>
                <a:latin typeface="Arial"/>
              </a:rPr>
              <a:t>You mean the world to some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2080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are special and u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one you don’t even know – loves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71280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you make the biggest mistake e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omething good comes from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4968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you think the World has turned it’s back on you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nother l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21:54:42Z</dcterms:created>
  <dc:creator>Biddy.Bid...NZ</dc:creator>
  <dc:description/>
  <dc:language>en-US</dc:language>
  <cp:lastModifiedBy>Biddy.Bid...NZ</cp:lastModifiedBy>
  <dcterms:modified xsi:type="dcterms:W3CDTF">2008-09-24T04:42:13Z</dcterms:modified>
  <cp:revision>5</cp:revision>
  <dc:subject/>
  <dc:title>Slide 1</dc:title>
</cp:coreProperties>
</file>