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Caf%C3%A8%20Del%20Mar%20-%20Aria%203%20-%20Metamorphosis%20-%2002%20-%20Paul%20Schwartz%20-%20Furioso.wav" ContentType="audio/x-wav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21E0-AA5B-40BD-A8A6-79078529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5C6D-D4EA-4FBD-B7A3-C11901DF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0A96-1F7A-4C6D-966E-536EBF4A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2D7D-411B-4158-B41E-F4EEAB97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DB8E-435E-4BD6-88BC-94A26AA6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B963-E164-4214-A4EA-90084A6D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3AE4-4AED-4A7A-9E90-D3819172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FE4B-AEB1-4953-811E-30995F45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7C62-96E5-46D3-86C0-607370B3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B0CC-859C-4FAD-BCBD-1C715ABA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558F-50C9-4DD0-98C7-6A569563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56FD-3D9A-4043-A5BA-69176A51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E6C4-0C4C-4DD2-BCE5-DB68C7026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f&#232;%20Del%20Mar%20-%20Aria%203%20-%20Metamorphosis%20-%2002%20-%20Paul%20Schwartz%20-%20Furioso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8640" y="1295280"/>
            <a:ext cx="8258040" cy="916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eece1"/>
                </a:solidFill>
                <a:latin typeface="Arial"/>
              </a:rPr>
              <a:t>WILD AND WONDERFU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3505320"/>
            <a:ext cx="6937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f81b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ce1"/>
                </a:solidFill>
                <a:latin typeface="Arial"/>
              </a:rPr>
              <a:t>WE HAVE TO THANK GOD FOR SUCH BEAUTIF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ce1"/>
                </a:solidFill>
                <a:latin typeface="Arial"/>
              </a:rPr>
              <a:t>AND WONDERFUL CRE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pull dir="ru"/>
    <p:sndAc>
      <p:stSnd>
        <p:snd r:embed="rId1" name="Caf%C3%A8%20Del%20Mar%20-%20Aria%203%20-%20Metamorphosis%20-%2002%20-%20Paul%20Schwartz%20-%20Furios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 Imagen" descr="fun_animals_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 Imagen" descr="fotos-animales-aguilas-peq.jpg"/>
          <p:cNvPicPr/>
          <p:nvPr/>
        </p:nvPicPr>
        <p:blipFill>
          <a:blip r:embed="rId1"/>
          <a:stretch/>
        </p:blipFill>
        <p:spPr>
          <a:xfrm>
            <a:off x="0" y="0"/>
            <a:ext cx="9796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Imagen" descr="11912 AGUILA.jp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 Imagen" descr="1199458023_extras_albumes_0 CABEZ AGUILA.jpg"/>
          <p:cNvPicPr/>
          <p:nvPr/>
        </p:nvPicPr>
        <p:blipFill>
          <a:blip r:embed="rId1"/>
          <a:stretch/>
        </p:blipFill>
        <p:spPr>
          <a:xfrm>
            <a:off x="-380880" y="0"/>
            <a:ext cx="10315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3 Imagen" descr="150_misc_62090.jpg"/>
          <p:cNvPicPr/>
          <p:nvPr/>
        </p:nvPicPr>
        <p:blipFill>
          <a:blip r:embed="rId1"/>
          <a:stretch/>
        </p:blipFill>
        <p:spPr>
          <a:xfrm>
            <a:off x="0" y="0"/>
            <a:ext cx="9504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 Imagen" descr="2211312010_016bf8f18c.jpg"/>
          <p:cNvPicPr/>
          <p:nvPr/>
        </p:nvPicPr>
        <p:blipFill>
          <a:blip r:embed="rId1"/>
          <a:stretch/>
        </p:blipFill>
        <p:spPr>
          <a:xfrm>
            <a:off x="0" y="0"/>
            <a:ext cx="96105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 Imagen" descr="223355574_d87e2d71a4.jpg"/>
          <p:cNvPicPr/>
          <p:nvPr/>
        </p:nvPicPr>
        <p:blipFill>
          <a:blip r:embed="rId1"/>
          <a:stretch/>
        </p:blipFill>
        <p:spPr>
          <a:xfrm>
            <a:off x="-457200" y="0"/>
            <a:ext cx="101757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 Imagen" descr="36761.jpg"/>
          <p:cNvPicPr/>
          <p:nvPr/>
        </p:nvPicPr>
        <p:blipFill>
          <a:blip r:embed="rId1"/>
          <a:stretch/>
        </p:blipFill>
        <p:spPr>
          <a:xfrm>
            <a:off x="0" y="-228600"/>
            <a:ext cx="9680400" cy="70866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 Imagen" descr="186_misc_55042.jpg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Imagen" descr="148_misc_45651.jpg"/>
          <p:cNvPicPr/>
          <p:nvPr/>
        </p:nvPicPr>
        <p:blipFill>
          <a:blip r:embed="rId1"/>
          <a:stretch/>
        </p:blipFill>
        <p:spPr>
          <a:xfrm>
            <a:off x="-133200" y="0"/>
            <a:ext cx="92772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 Imagen" descr="fun_animals_30.jpg"/>
          <p:cNvPicPr/>
          <p:nvPr/>
        </p:nvPicPr>
        <p:blipFill>
          <a:blip r:embed="rId1"/>
          <a:stretch/>
        </p:blipFill>
        <p:spPr>
          <a:xfrm>
            <a:off x="-380880" y="0"/>
            <a:ext cx="100296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Imagen" descr="168_misc_1096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Imagen" descr="abrazaditos_gato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 Imagen" descr="fotos-cachorros-perros-peq.jpg"/>
          <p:cNvPicPr/>
          <p:nvPr/>
        </p:nvPicPr>
        <p:blipFill>
          <a:blip r:embed="rId1"/>
          <a:stretch/>
        </p:blipFill>
        <p:spPr>
          <a:xfrm>
            <a:off x="-457200" y="0"/>
            <a:ext cx="11430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Imagen" descr="gatoconcasc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 Imagen" descr="polarbear.jpg"/>
          <p:cNvPicPr/>
          <p:nvPr/>
        </p:nvPicPr>
        <p:blipFill>
          <a:blip r:embed="rId1"/>
          <a:stretch/>
        </p:blipFill>
        <p:spPr>
          <a:xfrm>
            <a:off x="-228600" y="0"/>
            <a:ext cx="9899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1 Imagen" descr="74379416.jpg"/>
          <p:cNvPicPr/>
          <p:nvPr/>
        </p:nvPicPr>
        <p:blipFill>
          <a:blip r:embed="rId1"/>
          <a:stretch/>
        </p:blipFill>
        <p:spPr>
          <a:xfrm>
            <a:off x="-9360" y="-228600"/>
            <a:ext cx="9153360" cy="70866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 Imagen" descr="2140013039_247a74e7ee.jpg"/>
          <p:cNvPicPr/>
          <p:nvPr/>
        </p:nvPicPr>
        <p:blipFill>
          <a:blip r:embed="rId1"/>
          <a:stretch/>
        </p:blipFill>
        <p:spPr>
          <a:xfrm>
            <a:off x="-533520" y="0"/>
            <a:ext cx="10296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1 Imagen" descr="7437947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81200" y="3110040"/>
            <a:ext cx="75816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4f81bd"/>
                </a:solidFill>
                <a:latin typeface="Arial Black"/>
              </a:rPr>
              <a:t>SHARE THIS WITH HUMANITY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4f81bd"/>
              </a:solidFill>
              <a:latin typeface="Arial Black"/>
              <a:ea typeface="Arial Black"/>
            </a:endParaRPr>
          </a:p>
        </p:txBody>
      </p:sp>
    </p:spTree>
  </p:cSld>
  <p:transition spd="slow" advTm="3000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 Imagen" descr="fun_animals_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 Imagen" descr="fun_animals_25.jpg"/>
          <p:cNvPicPr/>
          <p:nvPr/>
        </p:nvPicPr>
        <p:blipFill>
          <a:blip r:embed="rId1"/>
          <a:stretch/>
        </p:blipFill>
        <p:spPr>
          <a:xfrm>
            <a:off x="-228600" y="0"/>
            <a:ext cx="9685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Imagen" descr="fun_animals_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Imagen" descr="fun_animals_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 Imagen" descr="74379350.jpg"/>
          <p:cNvPicPr/>
          <p:nvPr/>
        </p:nvPicPr>
        <p:blipFill>
          <a:blip r:embed="rId1"/>
          <a:stretch/>
        </p:blipFill>
        <p:spPr>
          <a:xfrm>
            <a:off x="-457200" y="0"/>
            <a:ext cx="10395000" cy="69501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Imagen" descr="fun_animals_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2 Imagen" descr="1199457170_extras_albumes_LOB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6:42:05Z</dcterms:created>
  <dc:creator>ARTURO</dc:creator>
  <dc:description/>
  <dc:language>en-US</dc:language>
  <cp:lastModifiedBy>HP Authorized Customer</cp:lastModifiedBy>
  <dcterms:modified xsi:type="dcterms:W3CDTF">2009-01-31T16:16:27Z</dcterms:modified>
  <cp:revision>13</cp:revision>
  <dc:subject/>
  <dc:title>Diapositiva 1</dc:title>
</cp:coreProperties>
</file>